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938-1026-47A5-9875-A8F19577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BAC-C13C-4219-8911-63660C71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A06-7068-460B-AB14-16BC7512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EE3-DBF3-451A-A19C-79ED5099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75F6-3D14-427A-9519-10B6C215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6C7E-2A76-4EF4-80D1-1568AA1C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E7F-B9A3-43D4-B5BB-A303F24B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7BE6-F6C9-484A-A1A2-9FD03773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AF20-2927-4ECF-9A49-46D94834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B110-AE8A-4D7D-A196-D729FCC3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293A-9626-487B-8886-4C0CCB48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532-8660-4FA2-A63D-E756D5B2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D4E0-DA42-474F-8B31-33C33BA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7DEC-34E6-46E3-A846-2EEF668B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B395-45B1-4C69-8642-95BC31F6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9656-ABE9-4689-8E16-927A67BE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1F73-45E6-4928-9CEB-EC36177C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397-462C-4795-A884-D8FC1C22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C2F-2934-4CA6-AC2E-3CCA2F1C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0D8-7AC6-443F-B7D9-A52CC392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FCA-4356-41C9-9EC7-E2095D7F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282-DDB6-4B45-BCF7-B25F0926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0F0-8CB1-4A22-B66D-5D941CCF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41E-78FA-467A-82EB-9B846669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21F1-105E-4D8A-847B-49F510AF0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2C1F-2673-4F0F-8077-3D0D06BD0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yber Attack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Rh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Who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What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69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terrorist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bad as 9/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6480" y="2486160"/>
            <a:ext cx="369540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Where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 and Eston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When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Why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69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ked third wo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6480" y="1886040"/>
            <a:ext cx="3695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How Did This Make Me Feel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0:27:54Z</dcterms:created>
  <dc:creator>Scott  Rhee</dc:creator>
  <dc:description/>
  <dc:language>en-US</dc:language>
  <cp:lastModifiedBy>Scott  Rhee</cp:lastModifiedBy>
  <dcterms:modified xsi:type="dcterms:W3CDTF">2009-01-11T23:05:31Z</dcterms:modified>
  <cp:revision>4</cp:revision>
  <dc:subject/>
  <dc:title>Cyber Attack</dc:title>
</cp:coreProperties>
</file>